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0D3-E247-496A-BF7F-9B931913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D4F-279D-4C0A-8962-C199D06F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A9F-BF9C-4B65-AA1E-1F895F73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5F1-3B2A-4876-895C-55AB5EC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39F-228E-47AD-A29B-55A990EE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5DF-E1F8-4519-82AA-F465CF18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331-7960-4EC3-A872-025FCB62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403-5608-4C0F-B2D4-35868800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29F-85CA-4D4F-A993-74C60195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E77-86D7-419A-965C-9FF41FC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2C2-6A11-488E-960D-B58F7632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E1C-EC6E-4FFE-AF8F-A695BA2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0E8A-0CF4-4AB9-BDE1-A04E4A042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cc99"/>
                </a:solidFill>
                <a:latin typeface="Monotype Corsiva"/>
              </a:rPr>
              <a:t>O zi ploioasa la INM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579096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Monotype Corsiva"/>
              </a:rPr>
              <a:t>Scoala cu clasele I-VIII “Elena Vacarescu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SCOPUL VIZIT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Familiarizarea elevilor cu metode de masurare a temperaturii si presiunii atmosferice  si constientizarea efectelor nocive pe care le are poluarea asupra mediu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05160" y="152280"/>
            <a:ext cx="3733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OBIECT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61722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Colectarea de informatii referitoare la temperatura, presiune si nivel de precipitatii, pe parcursul a patru saptama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mbogatirea  cunostintelor elevilor cu privire la temperatura, presiune, unitati de masura si simboluri meteorolog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Masurarea de catre elevi a temperaturii aerului utilizand indicatiile meteorologului de la instit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Elevii particip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2209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Nicolae Andrei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Tibăr Teo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Broştiuc Andre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Luntraru Cătă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Olaru Ma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Baba Co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un Cri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Nicorescu Ruxan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Simedre Crist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Selea Alexand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Pascale Di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Gheorghiu Lu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Abdulamit Sa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Zaharia Mir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Nicolescu Brist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Ţigănuş Rox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Ciminian Ana/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Monotype Corsiva"/>
              </a:rPr>
              <a:t>Activitati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In aceasta vizita elevii au putut vedea metode prin care se masoara temperatura aerului, temperatura solului si au vizionat poze realizate tarii noastre prin satelit .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Meteorologul le-a prezentat harti si modul in care acesta ii ajuta in interpretarea date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Evalua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Elevii vor urmari buletinele meteo si vor realiza un tabel al variatiei temperaturii si presiun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Utilizand datele din tabel vor realiza cu ajutorul aplicatiei Microsoft Excel graficele variatiei temperaturii pentru municipiul Bucurest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Concluzi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peram ca in urma acestei vizite elevii si-au imbogatit cunostintele referitoare la notiunile: temperatura, presiune, harti meteorologice, curenti de aer etc, notiuni pe care le vor intalni pe parcursul viet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Elevii au observat ca poluarea joaca un rol foarte important in schimbarile clima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ut</cp:lastModifiedBy>
  <dcterms:modified xsi:type="dcterms:W3CDTF">2009-11-25T04:43:19Z</dcterms:modified>
  <cp:revision>6</cp:revision>
  <dc:subject/>
  <dc:title>O zi ploioasa la INMH</dc:title>
</cp:coreProperties>
</file>